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B0FA-BCF5-4D77-8652-AE0D97BD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5829-0F4D-4B9A-8459-380F04B9D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ECD-984B-45B7-8E80-63D2F65A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68E-97FA-413C-AF55-19A32E08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24A-975C-4187-BA7C-5C11A56C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647-269F-4CB6-A844-A9B35215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BF4-F667-445E-8ADF-5CAA6C95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4F6-1B16-429D-9750-E9B40C97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6C4-EBED-4D58-92CF-8B7C836E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104-36E3-40EA-B3FA-C01926A7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740-80C4-4342-B3D9-4B6530C7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70E-619D-4951-BC7E-2CC08F0E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6E9-5A5D-484F-8C21-B451BC2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CBB-6A0D-49F2-A0E5-1CE209C4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10BA-F469-42E7-ABB3-0C2BA929A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at Hussei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562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numbre es Ayat. Vivo en New York. Yo tengo catorce años. Tengo dos hermanos, una hermana y un hermano. Yo soy bonita. Estoy feliz y enerjica. Adio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212760" y="5029200"/>
            <a:ext cx="64116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950000"/>
            <a:ext cx="536760" cy="7855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864400"/>
            <a:ext cx="543240" cy="785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0228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913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3244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7:51Z</dcterms:modified>
  <cp:revision>102</cp:revision>
  <dc:subject/>
  <dc:title>Profile</dc:title>
</cp:coreProperties>
</file>